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594-CB7E-46D2-9400-FC182000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A5E-3A30-4935-89D9-72332D3B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924-E06F-4813-8003-43E07BA1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D3A-355F-4AD7-BFC0-5C397B45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D8C5-6991-4C61-87AD-8827903E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D42C-31D0-4048-A543-B6C4AC1F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6BE-5277-482D-A8AA-94FA2117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9F6-6564-4C36-A8FF-1DD44CF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349-3D16-40E4-B552-7ADF04AF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C771-8144-4786-8D5B-528B191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53D-FA1D-4614-8258-449D1B7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59A-0F59-4B41-ADD7-A5128D0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3560-05DE-4113-9A06-C52E05B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92EE-2D3C-4653-ACF7-AD4EEC9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850E-888D-415F-87DD-522E816D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4B3C-5063-449F-AB02-B98AEE57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9C51-5F69-4976-AD97-18425C79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6ACF-BF15-428C-9E73-E7F48B5A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7867-D565-4F7A-B19E-1B6C62C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C7CE-AA11-4588-8E9A-8ACC898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EBD2-BECB-4452-AB9D-12F2BFFC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3EBA-F9F9-4966-B2C1-EB0F861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988-43B9-4EA7-9BC7-BD81469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88A3-B759-4058-BBBA-3985D314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E3E5-A69A-490C-97A5-B5178F57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5243-81DA-4E73-B25D-A2788D40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F553-45CC-4BA0-A907-6CEF3CB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D6CC-25EE-456B-A0A4-456D380C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635A-386B-4628-810E-DEE6A4A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8B8E-D28B-441B-8629-EE7A4ACD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D97-C5A3-4DC6-99F2-00A7F594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DB4-70E0-43DC-BC82-57854503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E82-6057-40F0-B869-F53D80C3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9E1-6E27-471B-89AE-1EDEB8D4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575-86B1-4B7A-BDF2-DA3C18E3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CEE-FB11-4BC9-B9BE-59CA16F8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0A3-BEC2-44C9-99F9-2EA08CB9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F528-8A6A-4DF7-8AB4-9EA3733CA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69E1-7871-4DE0-8743-767790ED6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854000"/>
            <a:ext cx="91440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rganism Survival cont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429000"/>
            <a:ext cx="9144000" cy="1143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rowth, maintenance &amp; reproduction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25280"/>
            <a:ext cx="896472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gamete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282680"/>
            <a:ext cx="79214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and fe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tes un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ploid nuclei f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ducing a diplo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(rec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ous chromosome pai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w cel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tiliz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restores chromosome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23 +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23 = </a:t>
            </a: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 4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introdu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 genetic 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gametes combine random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22766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43040" y="5699160"/>
            <a:ext cx="7272360" cy="71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differenti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f gam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rt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fi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Sexual Re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8066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ally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y inher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binations of alleles (versions of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c0c0c0"/>
                </a:solidFill>
                <a:latin typeface="Arial"/>
              </a:rPr>
              <a:t>(</a:t>
            </a:r>
            <a:r>
              <a:rPr b="0" i="1" lang="en-ZA" sz="2400" spc="-1" strike="noStrike">
                <a:solidFill>
                  <a:srgbClr val="c0c0c0"/>
                </a:solidFill>
                <a:latin typeface="Arial"/>
              </a:rPr>
              <a:t>which drives the process of </a:t>
            </a:r>
            <a:r>
              <a:rPr b="1" i="1" lang="en-ZA" sz="2400" spc="-1" strike="noStrike">
                <a:solidFill>
                  <a:srgbClr val="c0c0c0"/>
                </a:solidFill>
                <a:latin typeface="Arial"/>
              </a:rPr>
              <a:t>evolution</a:t>
            </a:r>
            <a:r>
              <a:rPr b="0" lang="en-ZA" sz="2400" spc="-1" strike="noStrike">
                <a:solidFill>
                  <a:srgbClr val="c0c0c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non-sister chromatids in Prophase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Alig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chromosomes in Metaphase 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phase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tion of gametes 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tes the life cycl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ellular Eukary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9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14400" y="0"/>
            <a:ext cx="82296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xual life cycle comple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02040" y="1741320"/>
            <a:ext cx="1824120" cy="182880"/>
          </a:xfrm>
          <a:custGeom>
            <a:avLst/>
            <a:gdLst/>
            <a:ahLst/>
            <a:rect l="l" t="t" r="r" b="b"/>
            <a:pathLst>
              <a:path w="960" h="304">
                <a:moveTo>
                  <a:pt x="960" y="304"/>
                </a:moveTo>
                <a:cubicBezTo>
                  <a:pt x="924" y="232"/>
                  <a:pt x="888" y="160"/>
                  <a:pt x="816" y="112"/>
                </a:cubicBezTo>
                <a:cubicBezTo>
                  <a:pt x="744" y="64"/>
                  <a:pt x="664" y="32"/>
                  <a:pt x="528" y="16"/>
                </a:cubicBezTo>
                <a:cubicBezTo>
                  <a:pt x="392" y="0"/>
                  <a:pt x="88" y="16"/>
                  <a:pt x="0" y="16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1719360"/>
            <a:ext cx="990720" cy="110880"/>
          </a:xfrm>
          <a:custGeom>
            <a:avLst/>
            <a:gdLst/>
            <a:ahLst/>
            <a:rect l="l" t="t" r="r" b="b"/>
            <a:pathLst>
              <a:path w="713" h="97">
                <a:moveTo>
                  <a:pt x="713" y="97"/>
                </a:moveTo>
                <a:cubicBezTo>
                  <a:pt x="684" y="85"/>
                  <a:pt x="621" y="39"/>
                  <a:pt x="540" y="24"/>
                </a:cubicBezTo>
                <a:cubicBezTo>
                  <a:pt x="459" y="9"/>
                  <a:pt x="319" y="0"/>
                  <a:pt x="229" y="5"/>
                </a:cubicBezTo>
                <a:cubicBezTo>
                  <a:pt x="139" y="10"/>
                  <a:pt x="48" y="42"/>
                  <a:pt x="0" y="51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00360" y="3789360"/>
            <a:ext cx="573120" cy="10303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716120" y="4010040"/>
            <a:ext cx="1557360" cy="124776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0200" y="3192480"/>
            <a:ext cx="868320" cy="712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07280" y="1596960"/>
            <a:ext cx="909360" cy="711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5400000">
            <a:off x="2203920" y="1780200"/>
            <a:ext cx="1208160" cy="136836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71960" y="1606680"/>
            <a:ext cx="493560" cy="409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94000" y="5097600"/>
            <a:ext cx="493920" cy="411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94000" y="4621320"/>
            <a:ext cx="493920" cy="411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48040" y="5289480"/>
            <a:ext cx="1620720" cy="96840"/>
          </a:xfrm>
          <a:custGeom>
            <a:avLst/>
            <a:gdLst/>
            <a:ahLst/>
            <a:rect l="l" t="t" r="r" b="b"/>
            <a:pathLst>
              <a:path w="457" h="64">
                <a:moveTo>
                  <a:pt x="0" y="64"/>
                </a:moveTo>
                <a:lnTo>
                  <a:pt x="457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78280" y="5415120"/>
            <a:ext cx="1590480" cy="1713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lnTo>
                  <a:pt x="480" y="112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38760" y="5415120"/>
            <a:ext cx="1530000" cy="519120"/>
          </a:xfrm>
          <a:custGeom>
            <a:avLst/>
            <a:gdLst/>
            <a:ahLst/>
            <a:rect l="l" t="t" r="r" b="b"/>
            <a:pathLst>
              <a:path w="430" h="293">
                <a:moveTo>
                  <a:pt x="0" y="0"/>
                </a:moveTo>
                <a:lnTo>
                  <a:pt x="430" y="293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8040" y="5370480"/>
            <a:ext cx="1620720" cy="887400"/>
          </a:xfrm>
          <a:custGeom>
            <a:avLst/>
            <a:gdLst/>
            <a:ahLst/>
            <a:rect l="l" t="t" r="r" b="b"/>
            <a:pathLst>
              <a:path w="430" h="530">
                <a:moveTo>
                  <a:pt x="0" y="0"/>
                </a:moveTo>
                <a:lnTo>
                  <a:pt x="430" y="53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48040" y="4726080"/>
            <a:ext cx="1704960" cy="160200"/>
          </a:xfrm>
          <a:custGeom>
            <a:avLst/>
            <a:gdLst/>
            <a:ahLst/>
            <a:rect l="l" t="t" r="r" b="b"/>
            <a:pathLst>
              <a:path w="448" h="100">
                <a:moveTo>
                  <a:pt x="0" y="0"/>
                </a:moveTo>
                <a:lnTo>
                  <a:pt x="448" y="10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48040" y="4564080"/>
            <a:ext cx="1704960" cy="162000"/>
          </a:xfrm>
          <a:custGeom>
            <a:avLst/>
            <a:gdLst/>
            <a:ahLst/>
            <a:rect l="l" t="t" r="r" b="b"/>
            <a:pathLst>
              <a:path w="420" h="119">
                <a:moveTo>
                  <a:pt x="0" y="119"/>
                </a:moveTo>
                <a:lnTo>
                  <a:pt x="420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48040" y="4278240"/>
            <a:ext cx="1704960" cy="447840"/>
          </a:xfrm>
          <a:custGeom>
            <a:avLst/>
            <a:gdLst/>
            <a:ahLst/>
            <a:rect l="l" t="t" r="r" b="b"/>
            <a:pathLst>
              <a:path w="485" h="311">
                <a:moveTo>
                  <a:pt x="0" y="311"/>
                </a:moveTo>
                <a:lnTo>
                  <a:pt x="485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44800" y="3906720"/>
            <a:ext cx="1689120" cy="827280"/>
          </a:xfrm>
          <a:custGeom>
            <a:avLst/>
            <a:gdLst/>
            <a:ahLst/>
            <a:rect l="l" t="t" r="r" b="b"/>
            <a:pathLst>
              <a:path w="471" h="514">
                <a:moveTo>
                  <a:pt x="0" y="514"/>
                </a:moveTo>
                <a:lnTo>
                  <a:pt x="471" y="0"/>
                </a:ln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51680" y="3859200"/>
            <a:ext cx="129960" cy="1184400"/>
          </a:xfrm>
          <a:custGeom>
            <a:avLst/>
            <a:gdLst>
              <a:gd name="textAreaLeft" fmla="*/ 0 w 129960"/>
              <a:gd name="textAreaRight" fmla="*/ 46800 w 129960"/>
              <a:gd name="textAreaTop" fmla="*/ 30600 h 1184400"/>
              <a:gd name="textAreaBottom" fmla="*/ 115380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485"/>
                </a:lnTo>
                <a:cubicBezTo>
                  <a:pt x="10800" y="3385"/>
                  <a:pt x="16200" y="4285"/>
                  <a:pt x="21600" y="4285"/>
                </a:cubicBezTo>
                <a:cubicBezTo>
                  <a:pt x="16200" y="4285"/>
                  <a:pt x="10800" y="5185"/>
                  <a:pt x="10800" y="608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1680" y="5183280"/>
            <a:ext cx="101520" cy="1270080"/>
          </a:xfrm>
          <a:custGeom>
            <a:avLst/>
            <a:gdLst>
              <a:gd name="textAreaLeft" fmla="*/ 0 w 101520"/>
              <a:gd name="textAreaRight" fmla="*/ 36720 w 101520"/>
              <a:gd name="textAreaTop" fmla="*/ 33120 h 1270080"/>
              <a:gd name="textAreaBottom" fmla="*/ 1236960 h 12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192"/>
                </a:lnTo>
                <a:cubicBezTo>
                  <a:pt x="10800" y="7092"/>
                  <a:pt x="16200" y="7992"/>
                  <a:pt x="21600" y="7992"/>
                </a:cubicBezTo>
                <a:cubicBezTo>
                  <a:pt x="16200" y="7992"/>
                  <a:pt x="10800" y="8892"/>
                  <a:pt x="10800" y="979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40480" y="3833640"/>
            <a:ext cx="392040" cy="306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40480" y="4149720"/>
            <a:ext cx="392040" cy="308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40480" y="4468680"/>
            <a:ext cx="39204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40480" y="4805280"/>
            <a:ext cx="392040" cy="30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40480" y="5183280"/>
            <a:ext cx="392040" cy="306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3080" y="5514840"/>
            <a:ext cx="393840" cy="3081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0480" y="5842080"/>
            <a:ext cx="392040" cy="304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0480" y="6140520"/>
            <a:ext cx="392040" cy="307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 rot="16200000">
            <a:off x="6360120" y="3689280"/>
            <a:ext cx="398520" cy="37440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5850800">
            <a:off x="6526440" y="4503600"/>
            <a:ext cx="922320" cy="12445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15360" y="4124160"/>
            <a:ext cx="392040" cy="306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3708000">
            <a:off x="5734440" y="1937520"/>
            <a:ext cx="371520" cy="32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78640" y="3236760"/>
            <a:ext cx="392040" cy="308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 rot="11652000">
            <a:off x="7169040" y="2380320"/>
            <a:ext cx="858960" cy="145872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 rot="11317800">
            <a:off x="6200280" y="2291760"/>
            <a:ext cx="636840" cy="820440"/>
          </a:xfrm>
          <a:custGeom>
            <a:avLst/>
            <a:gdLst/>
            <a:ahLst/>
            <a:rect l="l" t="t" r="r" b="b"/>
            <a:pathLst>
              <a:path w="720" h="1248">
                <a:moveTo>
                  <a:pt x="0" y="1248"/>
                </a:moveTo>
                <a:cubicBezTo>
                  <a:pt x="12" y="1116"/>
                  <a:pt x="24" y="984"/>
                  <a:pt x="48" y="864"/>
                </a:cubicBezTo>
                <a:cubicBezTo>
                  <a:pt x="72" y="744"/>
                  <a:pt x="96" y="632"/>
                  <a:pt x="144" y="528"/>
                </a:cubicBezTo>
                <a:cubicBezTo>
                  <a:pt x="192" y="424"/>
                  <a:pt x="264" y="320"/>
                  <a:pt x="336" y="240"/>
                </a:cubicBezTo>
                <a:cubicBezTo>
                  <a:pt x="408" y="160"/>
                  <a:pt x="512" y="88"/>
                  <a:pt x="576" y="48"/>
                </a:cubicBezTo>
                <a:cubicBezTo>
                  <a:pt x="640" y="8"/>
                  <a:pt x="680" y="4"/>
                  <a:pt x="720" y="0"/>
                </a:cubicBezTo>
              </a:path>
            </a:pathLst>
          </a:custGeom>
          <a:noFill/>
          <a:ln w="57240">
            <a:solidFill>
              <a:srgbClr val="66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84920" y="2255760"/>
            <a:ext cx="376200" cy="61596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53" y="0"/>
                </a:moveTo>
                <a:cubicBezTo>
                  <a:pt x="0" y="79"/>
                  <a:pt x="61" y="66"/>
                  <a:pt x="125" y="72"/>
                </a:cubicBezTo>
                <a:cubicBezTo>
                  <a:pt x="141" y="120"/>
                  <a:pt x="135" y="77"/>
                  <a:pt x="101" y="104"/>
                </a:cubicBezTo>
                <a:cubicBezTo>
                  <a:pt x="94" y="109"/>
                  <a:pt x="96" y="120"/>
                  <a:pt x="93" y="128"/>
                </a:cubicBezTo>
                <a:cubicBezTo>
                  <a:pt x="109" y="175"/>
                  <a:pt x="89" y="132"/>
                  <a:pt x="125" y="168"/>
                </a:cubicBezTo>
                <a:cubicBezTo>
                  <a:pt x="132" y="175"/>
                  <a:pt x="137" y="183"/>
                  <a:pt x="141" y="192"/>
                </a:cubicBezTo>
                <a:cubicBezTo>
                  <a:pt x="145" y="200"/>
                  <a:pt x="149" y="216"/>
                  <a:pt x="149" y="216"/>
                </a:cubicBez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52000" y="16286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197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3789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emale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06400" y="2781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0288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54320" y="1616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080" y="50976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81040" y="46274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00120" y="3357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9938000">
            <a:off x="3996000" y="33573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Meiosis and cytoki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36240" y="4221000"/>
            <a:ext cx="19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male germ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43560" y="550080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emale germ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648600">
            <a:off x="1135440" y="17488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Mitosis and cytoki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02400" y="31748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6520" y="4051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6040" y="37670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66040" y="4089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66040" y="441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62800" y="47354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66040" y="5119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78640" y="5445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66040" y="5772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53080" y="6093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0720" y="10875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70800" y="1700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46680" y="1878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120400">
            <a:off x="7228080" y="296928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708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new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1204200" y="33732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Growth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Asexual Re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15640" y="995400"/>
            <a:ext cx="79218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on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eiosis, gamete formation and fertil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offspring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cal (genetic clon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ther and to the single 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32000" y="3141720"/>
            <a:ext cx="7272360" cy="718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w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you think the cells of the offspring are pro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66920" y="4019400"/>
            <a:ext cx="7237440" cy="849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t from growth and maintenan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functions in a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22756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te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eukary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ist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y?) Common in plants and fungi, and rare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13840" y="958680"/>
            <a:ext cx="442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exual reproduction (cl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, repa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in somatic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genetically identical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nuclear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number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iploid daughte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hase – homologous pairs do not inte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phase – chromosomes al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– separates sister chro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V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2640" y="1212840"/>
            <a:ext cx="403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in germ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genetically variable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nuclear di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e number halved (reduction divi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haploid daughter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hase I – crossing over occ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phase I – homologous pairs align for random asso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I – separates homologous pai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phase II – separates sister chro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2016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r and Taggart: The Unity and Divers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ll Division and Mit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pter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5280" y="4005360"/>
            <a:ext cx="8229600" cy="647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ukzn.ac.za/biology/BIOL101SmallerSideofLife256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492360" y="1270080"/>
            <a:ext cx="4033800" cy="367164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4520" y="319716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4 haploi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46720" y="13287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78640" y="116856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6680" y="377820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1880"/>
            <a:ext cx="40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Gametes and Fer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738000">
            <a:off x="3979440" y="1603080"/>
            <a:ext cx="2879640" cy="287964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2879640"/>
              <a:gd name="textAreaBottom" fmla="*/ 2880000 h 2879640"/>
            </a:gdLst>
            <a:ahLst/>
            <a:rect l="textAreaLeft" t="textAreaTop" r="textAreaRight" b="textAreaBottom"/>
            <a:pathLst>
              <a:path w="21600" h="21600">
                <a:moveTo>
                  <a:pt x="14306" y="5960"/>
                </a:moveTo>
                <a:arcTo wR="-5976" hR="-5976" stAng="-3244871" swAng="-18355129"/>
                <a:lnTo>
                  <a:pt x="0" y="10800"/>
                </a:lnTo>
                <a:arcTo wR="10800" hR="10800" stAng="10800000" swAng="18355129"/>
                <a:lnTo>
                  <a:pt x="2880" y="21733"/>
                </a:lnTo>
                <a:lnTo>
                  <a:pt x="1739" y="14594"/>
                </a:lnTo>
                <a:lnTo>
                  <a:pt x="8878" y="1345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1041480"/>
            <a:ext cx="2232000" cy="1373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Interphase, </a:t>
            </a:r>
            <a:r>
              <a:rPr b="1" i="1" lang="en-ZA" sz="2800" spc="-1" strike="noStrike">
                <a:solidFill>
                  <a:srgbClr val="000000"/>
                </a:solidFill>
                <a:latin typeface="Arial"/>
              </a:rPr>
              <a:t>Mitosis</a:t>
            </a: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sexual life cycle revi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38720" y="4570560"/>
            <a:ext cx="2232000" cy="947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000000"/>
                </a:solidFill>
                <a:latin typeface="Arial"/>
              </a:rPr>
              <a:t>Meiosis</a:t>
            </a:r>
            <a:r>
              <a:rPr b="1" i="1" lang="en-ZA" sz="2800" spc="-1" strike="noStrike">
                <a:solidFill>
                  <a:srgbClr val="969696"/>
                </a:solidFill>
                <a:latin typeface="Arial"/>
              </a:rPr>
              <a:t>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6880" y="5067360"/>
            <a:ext cx="172872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06400" y="2781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2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2880" y="37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1840" y="1211400"/>
            <a:ext cx="10494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12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21360" y="2852640"/>
            <a:ext cx="100800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6320" y="3814920"/>
            <a:ext cx="1008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0" t="0" r="0" b="50637"/>
          <a:stretch/>
        </p:blipFill>
        <p:spPr>
          <a:xfrm rot="2415600">
            <a:off x="1763280" y="3573360"/>
            <a:ext cx="1181160" cy="21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50998" r="0" b="0"/>
          <a:stretch/>
        </p:blipFill>
        <p:spPr>
          <a:xfrm rot="2415600">
            <a:off x="2120760" y="4316400"/>
            <a:ext cx="11811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9214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 will mature (differentiate) to 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gamete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erm – flagella for motility, +++ mitochondria for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gg – increased volume for biochemical support (e.g. nutr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8240" y="476280"/>
            <a:ext cx="9005760" cy="5689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9720" y="4716360"/>
            <a:ext cx="803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80880" y="4653000"/>
            <a:ext cx="198360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iosis 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4653000"/>
            <a:ext cx="19764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iosis I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64280" y="5361120"/>
            <a:ext cx="2384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1720" y="473040"/>
            <a:ext cx="126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at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a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44800" y="490680"/>
            <a:ext cx="184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spermatocytes (ha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1125360"/>
            <a:ext cx="1712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spermatocyte (di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125360"/>
            <a:ext cx="1320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ato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n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ploi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7280" y="5877000"/>
            <a:ext cx="2736720" cy="5511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rm (mature, haploid male game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48480" y="5681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77920" y="5589720"/>
            <a:ext cx="2492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9840" y="5589720"/>
            <a:ext cx="2492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ic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0360" y="4865760"/>
            <a:ext cx="1362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um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3887640"/>
            <a:ext cx="2130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oocyte (di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3430440"/>
            <a:ext cx="1479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gonium (di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64160" y="4595760"/>
            <a:ext cx="1563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 oocyte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549360"/>
            <a:ext cx="168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polar body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010040"/>
            <a:ext cx="1582560" cy="297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524720" y="620640"/>
            <a:ext cx="1150920" cy="3313080"/>
            <a:chOff x="7524720" y="620640"/>
            <a:chExt cx="1150920" cy="3313080"/>
          </a:xfrm>
        </p:grpSpPr>
        <p:sp>
          <p:nvSpPr>
            <p:cNvPr id="170" name=""/>
            <p:cNvSpPr/>
            <p:nvPr/>
          </p:nvSpPr>
          <p:spPr>
            <a:xfrm>
              <a:off x="7524720" y="692280"/>
              <a:ext cx="1150920" cy="32414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812000" y="620640"/>
              <a:ext cx="432000" cy="3168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773760" y="166680"/>
            <a:ext cx="1508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polar bodies (hapl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1960" y="11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) cells will mature (differentiate)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gamete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2017440" cy="1690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1960560" cy="1960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020000" y="0"/>
            <a:ext cx="2124000" cy="1501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684360" y="163440"/>
            <a:ext cx="4103640" cy="3246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6012000" y="907920"/>
            <a:ext cx="2306520" cy="1590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6084720" y="5199120"/>
            <a:ext cx="3059280" cy="1658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5013360"/>
            <a:ext cx="1521000" cy="1844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1619280" y="54529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1908000" y="4473720"/>
            <a:ext cx="1800360" cy="135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2"/>
          <a:stretch/>
        </p:blipFill>
        <p:spPr>
          <a:xfrm>
            <a:off x="3419640" y="542448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25280"/>
            <a:ext cx="896472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at is the fate of a haploid cel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63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Recall that meiosis and cytokinesis result 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4 genetically variable, haploid cells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being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produced from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1 diploid germ </a:t>
            </a:r>
            <a:r>
              <a:rPr b="0" lang="en-ZA" sz="2000" spc="-1" strike="noStrike">
                <a:solidFill>
                  <a:srgbClr val="c0c0c0"/>
                </a:solidFill>
                <a:latin typeface="Arial"/>
              </a:rPr>
              <a:t>(reproductive)</a:t>
            </a:r>
            <a:r>
              <a:rPr b="1" lang="en-ZA" sz="2000" spc="-1" strike="noStrike">
                <a:solidFill>
                  <a:srgbClr val="c0c0c0"/>
                </a:solidFill>
                <a:latin typeface="Arial"/>
              </a:rPr>
              <a:t>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Differentiated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haploid cell = </a:t>
            </a:r>
            <a:r>
              <a:rPr b="1" lang="en-US" sz="2000" spc="-1" strike="noStrike">
                <a:solidFill>
                  <a:srgbClr val="c0c0c0"/>
                </a:solidFill>
                <a:latin typeface="Arial"/>
              </a:rPr>
              <a:t>Gamete 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(recall: differentiation is a change in structure for a particular fun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Not all haploid (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) cells will mature (differentiate)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form gam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matur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genders of a species (male &amp; fema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between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181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746440"/>
            <a:ext cx="2050920" cy="140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0" y="6300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l Sexual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1120" cy="3357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01920" y="600120"/>
            <a:ext cx="1630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76360" y="2997360"/>
            <a:ext cx="1808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3440" y="9428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57480" y="447372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3440" y="447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8840" y="42876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mi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2880" y="1628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7480" y="1916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88920" y="1771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42480" y="176040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43000" y="3357720"/>
            <a:ext cx="1871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g (ovum) and sp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24000" y="1413000"/>
            <a:ext cx="6912000" cy="45370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19240" y="1628640"/>
            <a:ext cx="1598760" cy="648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2448000"/>
            <a:ext cx="9144000" cy="4421880"/>
            <a:chOff x="0" y="2448000"/>
            <a:chExt cx="9144000" cy="4421880"/>
          </a:xfrm>
        </p:grpSpPr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3276720" y="2448000"/>
              <a:ext cx="5867280" cy="42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948200" y="3606840"/>
              <a:ext cx="1630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32240" y="5722920"/>
              <a:ext cx="18079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me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0000" y="4017960"/>
              <a:ext cx="82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yg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6160" y="3516480"/>
              <a:ext cx="88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mit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0200" y="4754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Dipl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4800" y="504180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Hapl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48974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io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91120" y="49118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rti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990400">
              <a:off x="4936680" y="5746680"/>
              <a:ext cx="3021120" cy="863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849400">
              <a:off x="5580000" y="6048360"/>
              <a:ext cx="16304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OL 1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905440"/>
              <a:ext cx="414036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lant Sexual Life 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8920" y="5832360"/>
              <a:ext cx="2305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ules and poll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7960" y="4753080"/>
              <a:ext cx="1598400" cy="647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979640" y="4746600"/>
            <a:ext cx="1114560" cy="1069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968400" y="4746600"/>
            <a:ext cx="1011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5:29:47Z</dcterms:created>
  <dc:creator>Dave Thompson</dc:creator>
  <dc:description/>
  <dc:language>en-US</dc:language>
  <cp:lastModifiedBy>Sharon</cp:lastModifiedBy>
  <dcterms:modified xsi:type="dcterms:W3CDTF">2006-05-03T21:00:17Z</dcterms:modified>
  <cp:revision>68</cp:revision>
  <dc:subject/>
  <dc:title>Role of Mitosis</dc:title>
</cp:coreProperties>
</file>